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04D6-E485-4433-8564-38C190EF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D95-793A-4A96-909A-641B5658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818-15D2-4E8B-AFFA-F8973FA9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022-49D0-425F-A2A2-F6EA5F14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89A-91DD-46CD-B364-893D35B1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F08C-2C8D-4986-ADA0-701E78B53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F93-76BC-43CA-89B8-777E6B4F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01F-5A20-47B6-8606-FD5C5FAF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A61D-4684-419E-8D84-533EA24A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1287-B038-47DC-9BFB-86DA5F26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AA41-5D93-4AE6-A061-B2881332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826-1329-461A-8784-6FFD80C2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1383-97DF-4282-999B-54D8FF9FE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present_and_past_perfect_3.ht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present_and_past_perfect_1.ht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present_and_past_perfect_2.ht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en-US" sz="8800" spc="-1" strike="noStrike">
                <a:solidFill>
                  <a:srgbClr val="ff0066"/>
                </a:solidFill>
                <a:latin typeface="Harrington"/>
              </a:rPr>
              <a:t>Present Perfect and </a:t>
            </a:r>
            <a:br>
              <a:rPr sz="8800"/>
            </a:br>
            <a:r>
              <a:rPr b="0" lang="en-US" sz="8800" spc="-1" strike="noStrike">
                <a:solidFill>
                  <a:srgbClr val="ff0066"/>
                </a:solidFill>
                <a:latin typeface="Harrington"/>
              </a:rPr>
              <a:t>Pluperfec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9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you saw, the present perfect tense has a set of helping verbs that come from “haber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é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is true of the past perfect.  The helping verbs for the past perfect are the imperfect form of “haber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habl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m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b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bl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hab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habl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habí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habl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e1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the endings on “haber” for the past perfect are the endings for the imperfect ten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</a:t>
            </a:r>
            <a:r>
              <a:rPr b="1" lang="en-US" sz="2800" spc="-1" strike="noStrike">
                <a:solidFill>
                  <a:srgbClr val="ff69a6"/>
                </a:solidFill>
                <a:latin typeface="Arial"/>
              </a:rPr>
              <a:t>í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ESENT tense of “haber” + the past parti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st per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nse is the IMPERFECT (PAST) tense of “haber” + the past parti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 wh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uture per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nse is composed of.  But that’s another les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00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e0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ffc1e0"/>
                </a:solidFill>
                <a:latin typeface="Arial"/>
              </a:rPr>
              <a:t> to go to a brief practice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t Parti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erfect tenses are made up of two parts: the helping verb and the past participle of the main ver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82f00"/>
                </a:solidFill>
                <a:latin typeface="Arial"/>
              </a:rPr>
              <a:t>helping 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400f8"/>
                </a:solidFill>
                <a:latin typeface="Arial"/>
              </a:rPr>
              <a:t>past partici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400" spc="-1" strike="noStrike">
                <a:solidFill>
                  <a:srgbClr val="f82f00"/>
                </a:solidFill>
                <a:latin typeface="Arial"/>
              </a:rPr>
              <a:t>helping ver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6400f8"/>
                </a:solidFill>
                <a:latin typeface="Arial"/>
              </a:rPr>
              <a:t>past partici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eat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We 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s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You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finish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studi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She </a:t>
            </a:r>
            <a:r>
              <a:rPr b="0" lang="en-US" sz="3200" spc="-1" strike="noStrike">
                <a:solidFill>
                  <a:srgbClr val="f82f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6400f8"/>
                </a:solidFill>
                <a:latin typeface="Arial"/>
              </a:rPr>
              <a:t>fal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9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how you form the past participle in Spanis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the –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dd –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l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l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s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rz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morz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g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eg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op the –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–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add –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d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í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st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st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</a:t>
            </a:r>
            <a:r>
              <a:rPr b="0" lang="en-US" sz="2800" spc="-1" strike="noStrike">
                <a:solidFill>
                  <a:srgbClr val="6400f8"/>
                </a:solidFill>
                <a:latin typeface="Arial"/>
              </a:rPr>
              <a:t>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o to a brief practice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, of course, irregular past participles in Spanish as there are in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call</a:t>
            </a:r>
            <a:r>
              <a:rPr b="0" lang="en-US" sz="3200" spc="-1" strike="noStrike">
                <a:solidFill>
                  <a:srgbClr val="ff69a6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jump</a:t>
            </a:r>
            <a:r>
              <a:rPr b="0" lang="en-US" sz="3200" spc="-1" strike="noStrike">
                <a:solidFill>
                  <a:srgbClr val="ff69a6"/>
                </a:solidFill>
                <a:latin typeface="Arial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look</a:t>
            </a:r>
            <a:r>
              <a:rPr b="0" lang="en-US" sz="3200" spc="-1" strike="noStrike">
                <a:solidFill>
                  <a:srgbClr val="ff69a6"/>
                </a:solidFill>
                <a:latin typeface="Arial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eat</a:t>
            </a:r>
            <a:r>
              <a:rPr b="0" lang="en-US" sz="3200" spc="-1" strike="noStrike">
                <a:solidFill>
                  <a:srgbClr val="ff69a6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bring</a:t>
            </a:r>
            <a:r>
              <a:rPr b="0" lang="en-US" sz="3200" spc="-1" strike="noStrike">
                <a:solidFill>
                  <a:srgbClr val="ff69a6"/>
                </a:solidFill>
                <a:latin typeface="Arial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??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Extra Bold"/>
              </a:rPr>
              <a:t>br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8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 memorize the irregular past participles in Spanish just as you do in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elto (NOT volv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sto (NOT pon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r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erto     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r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i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r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p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ffdf"/>
                </a:solidFill>
                <a:latin typeface="Arial"/>
              </a:rPr>
              <a:t>Helping Ver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Now you need a helping verb to go with your past participles.  What we use is the present tense of the verb “habe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e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emos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béis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n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hab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Use these verb forms with all your past participles: 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comido, 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querido, 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a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vuelto, </a:t>
            </a:r>
            <a:r>
              <a:rPr b="0" lang="en-US" sz="3200" spc="-1" strike="noStrike">
                <a:solidFill>
                  <a:srgbClr val="e757ba"/>
                </a:solidFill>
                <a:latin typeface="Arial"/>
              </a:rPr>
              <a:t>hemos</a:t>
            </a:r>
            <a:r>
              <a:rPr b="0" lang="en-US" sz="3200" spc="-1" strike="noStrike">
                <a:solidFill>
                  <a:srgbClr val="dfffdf"/>
                </a:solidFill>
                <a:latin typeface="Arial"/>
              </a:rPr>
              <a:t> trabajado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Click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re</a:t>
            </a: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 to go to a brief practice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uperfec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ast Perfect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Pluscuamperfect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st perfect (also called the pluperfect and, in Spanish, the pluscuamperfecto), remember, is the past of the past and translates with “had” in English.  ALL perfect tenses get a helping verb and a past parti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 per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perf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per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will 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perf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3200" spc="-1" strike="noStrike">
                <a:solidFill>
                  <a:srgbClr val="ff3f3f"/>
                </a:solidFill>
                <a:latin typeface="Arial"/>
              </a:rPr>
              <a:t>would ha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e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4:42:22Z</dcterms:created>
  <dc:creator>Mary Marat</dc:creator>
  <dc:description/>
  <dc:language>en-US</dc:language>
  <cp:lastModifiedBy>Microsoft Office User</cp:lastModifiedBy>
  <dcterms:modified xsi:type="dcterms:W3CDTF">2016-11-29T14:32:29Z</dcterms:modified>
  <cp:revision>19</cp:revision>
  <dc:subject/>
  <dc:title>Present Perfect and  Pluperfect</dc:title>
</cp:coreProperties>
</file>